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2962-5EB3-4D76-BDF5-03D6CB6F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C725-56C7-455A-90BF-07DAFCB4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0C77-DCDA-4256-AEA1-584BBA66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8EC0-84C4-4B9F-A562-D0201E94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D7A1-00D7-4D0E-88C9-92EA3959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A967-4100-4392-9C42-CF94A69F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E489-1BDA-4D20-A56C-76D61279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2B87-AFA8-4711-8A11-7BB9B62F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4417-87CA-4053-BCA3-B6D6320E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0AEB-3153-4A56-A039-6AA8653A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3B82-1ACA-4B0C-80AE-914A0061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5CD9-8198-4CF5-8F83-3BFE7513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85D3-6970-4ECD-9D5E-B2963E023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tarchart.esc12.net/resources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4824" t="0" r="0" b="275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xas STa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441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lby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8 -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Texas STa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 STaR Chart is designed to help teachers, campuses, and districts determine their progress toward meeting the goals of the Long-Range Plan for Technology, as well as meeting the goals of the distri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 Areas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ing and Lear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or Preparation and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Administration and Instructional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fo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ngs Defi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= Early Te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= Developing Te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= Advanced Te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= Target 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– Reach Target Tech by the end of 2020 in compliance with TEA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Range Plan for Technology (LRP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ching an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ing 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have regular weekly access and use of technology and digital resources for curriculum in the classroom, library, or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use technology to support content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5467" t="32672" r="25003" b="39337"/>
          <a:stretch/>
        </p:blipFill>
        <p:spPr>
          <a:xfrm>
            <a:off x="1295280" y="1447920"/>
            <a:ext cx="6782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ducator Preparation &amp; Develop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ing 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on campus demonstrate four SBEC Technology Applications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use technology as a tool in and across content areas to enhance higher order think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5467" t="62005" r="24220" b="8669"/>
          <a:stretch/>
        </p:blipFill>
        <p:spPr>
          <a:xfrm>
            <a:off x="1143000" y="1295280"/>
            <a:ext cx="6858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dership Administration and Instructional Sup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ing 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us leadership communicates and implements a shared vision and obtains buy-in for comprehensive integration of technology leading to increased student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us discretionary funds and other resources are allocated to advance implementation of most of the technology strategies to meet the goals and objectives outlined in the Campus Improvemen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6250" t="20670" r="25003" b="50003"/>
          <a:stretch/>
        </p:blipFill>
        <p:spPr>
          <a:xfrm>
            <a:off x="1295280" y="1676520"/>
            <a:ext cx="67057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 for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ced 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or less students per Internet connected multimedia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connectivity to the Internet available at the campus in at least 75% of the rooms, including the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east one technical staff to 351-500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ed computer per educator with assigned use of  multimedia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6250" t="50003" r="25003" b="19335"/>
          <a:stretch/>
        </p:blipFill>
        <p:spPr>
          <a:xfrm>
            <a:off x="1143000" y="1447920"/>
            <a:ext cx="6705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rchart.esc12.net/resource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awn Renee F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05:11:52Z</dcterms:created>
  <dc:creator>User</dc:creator>
  <dc:description/>
  <dc:language>en-US</dc:language>
  <cp:lastModifiedBy>User</cp:lastModifiedBy>
  <dcterms:modified xsi:type="dcterms:W3CDTF">2010-07-15T06:04:52Z</dcterms:modified>
  <cp:revision>10</cp:revision>
  <dc:subject/>
  <dc:title>Texas STaR Chart</dc:title>
</cp:coreProperties>
</file>